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A2FF-6B5D-4717-B48C-253F2CABC9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A4B0-4302-4BEE-B55D-1A0E760951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408-31A7-4BCF-A6DC-0D3A88B9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5FB-61AD-4E5A-8571-E62DA178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C6E-562A-4B84-A46F-592165E0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92F-7AEA-469F-A1BA-CE830D69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5284-A423-4B74-B549-52E517B9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BBB9-DC42-42DE-9490-F528BD64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2FC8-DB64-4E85-99C5-95E68D40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6A1E-442C-4C7A-83A1-2B2B3CC7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A1F4-066E-42EA-9C03-6B1F239A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B2BF-DE94-475C-B97D-2B94C227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F0DD-1E9D-4634-900F-7EA71729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97C-39B2-4954-AFBF-CE7E0D0D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8968-5BA7-4710-A916-7891556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E320-D153-4407-8242-466DF45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0A38-AAA9-4136-9197-9E1892EF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CBFB-2779-4CD9-AA83-2DC2B320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6B1C-1787-41C0-9370-40DB20F2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95A40-8ABC-4DA0-A352-3D41FA7F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9AC5-31F5-4804-B379-078C309C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21B4-D37C-4D75-8052-FCBC0ED5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BD07-A636-41DF-B25D-148A2B97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E7D9-4FE4-443E-AC86-FD74B012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4E2-A535-4215-8DCF-92843428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686C-1047-4B18-8702-A3E8709E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7456C-BFDF-4C63-9C75-D1390CFF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E490-452B-4F1F-A5B2-D200EED0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0F6F-261E-4070-B040-D229B377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A967-AEBC-4802-A55F-FBFEBF6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BCEF-1C28-4B84-80C3-D48D29D1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21380-1F06-4948-95FF-2F6E7A4B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1DAA3-DC75-4B5A-A635-52380AC2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7910-430E-45AE-B251-99B5B99F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7177-4749-49D7-97F8-0CFF5645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8FF-C0DC-4926-93F4-AFD42C22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31FB6-C3B5-401F-8186-B7977202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CF977-AAEA-4D3C-A6EB-A4431B3D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8D7C6-19D0-41A0-A0D5-8BB5C5A3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D0441-FBC4-41CB-B6E0-7D16EE69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F8127-CFEA-4865-9ECF-071D5F5E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CB1C-2996-4C60-8DA4-BB1A64F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F29D8-7011-465C-A7B2-F1EF396D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FD0D9-69C2-4D0D-9000-4D9F9E6A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98E1-3D41-42FC-9244-96F2B726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9EFC0-F35D-488C-B1F3-660AE1BE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52C-A103-4AFB-9C59-184977BE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D796E-2B4C-42BF-A6EA-238BCAD3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3C952-01BE-4148-B797-83C8004C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08B5E-6FA1-4EF6-8D46-43EEFEBB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FA582-227D-4782-AA8B-4F3003A6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4A029-621F-4608-9405-B7410C30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E0C7F-0F6A-4474-AD8E-A33840BE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DF8B-46DC-4063-ACE4-D98F291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D79D2-6B5D-4F51-98CF-9214CA3C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EC753-F664-4633-9ACA-E73ABAA9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E0DAD-55BD-472B-AE8E-1D032F7F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F65-B8ED-4DAB-95BC-65E85034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B541D-87DE-4C2C-97F1-D2D75808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EF5-2217-45F8-835B-162AA766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5AF-0D4D-4B6D-838B-24147CB3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ADD-E5FF-4E8A-A6FE-9564452C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72A2-55FB-412E-857A-D24C5ED0CDD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DE00-FC7E-42A9-82F9-ADCBA3DBF1CD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BC32-4E31-47BD-ABD8-29C85E91E83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6A7B-BB7F-489E-A8F9-E2CA9300FFE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0F47-6EC3-4D4C-B7C4-D32FB941432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3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142720" y="3886200"/>
            <a:ext cx="671508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ernard MT Condensed"/>
              </a:rPr>
              <a:t>Лаевская Н.Л., Белопашенцева И.В., Дьяконова В.В.,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ernard MT Condensed"/>
              </a:rPr>
              <a:t>Залецкая Н.Н.,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Сапелкина И.И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МБДОУ  №548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3500280" y="271476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357120" y="241560"/>
            <a:ext cx="764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концепции воспитания основанной на Волновой технологии (автор Кузнецова Н.А.) говорится о единой волновой природе мира, человека и процессов его жизне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Это позволяет рассматривать процессы воспитания, образования и оздоровл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человека 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позиции явления резонанса в его положительном (созидательном)  проявлении, создавать и осуществля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эффективные способы коррекции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деструктивного поведения , гармониза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психологического и физического состояния, профилактики профдеформации и профвыгорания специалист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Благодар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применению метода Кузнецовой Н.А. визуализации абстрактных понятий осуществляется настройка субъектов на единые гармоничные опорные образы Нормы, формируется единое образовательное пространство на духовно-нравственных и здоровьсберегающих принципа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4000680" y="0"/>
            <a:ext cx="3571560" cy="3511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364320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0" y="428760"/>
            <a:ext cx="34988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3286080" cy="2143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357800" y="428760"/>
            <a:ext cx="3103560" cy="2047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571680" y="2928960"/>
            <a:ext cx="1914480" cy="2341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4"/>
          <a:stretch/>
        </p:blipFill>
        <p:spPr>
          <a:xfrm>
            <a:off x="3714840" y="3071880"/>
            <a:ext cx="314316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80264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фото работа\пед технологии\DSCN34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64080" cy="428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3714840" y="335772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13:52:04Z</dcterms:created>
  <dc:creator>admin</dc:creator>
  <dc:description/>
  <dc:language>en-US</dc:language>
  <cp:lastModifiedBy>admin</cp:lastModifiedBy>
  <dcterms:modified xsi:type="dcterms:W3CDTF">2016-12-08T15:13:40Z</dcterms:modified>
  <cp:revision>8</cp:revision>
  <dc:subject/>
  <dc:title>Апробация волновой концепция воспитания Кузнецова Н.А. в коррекционной работе с детьми с ТНР.</dc:title>
</cp:coreProperties>
</file>